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8656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860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5"/>
          </p:nvPr>
        </p:nvSpPr>
        <p:spPr>
          <a:xfrm>
            <a:off x="384444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ftr" idx="6"/>
          </p:nvPr>
        </p:nvSpPr>
        <p:spPr>
          <a:xfrm>
            <a:off x="-36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sldNum" idx="7"/>
          </p:nvPr>
        </p:nvSpPr>
        <p:spPr>
          <a:xfrm>
            <a:off x="384444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FF5D8E-6FE3-4B49-AA97-6D4F0F79D3CE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body"/>
          </p:nvPr>
        </p:nvSpPr>
        <p:spPr>
          <a:xfrm>
            <a:off x="906120" y="4738680"/>
            <a:ext cx="4971960" cy="44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Img"/>
          </p:nvPr>
        </p:nvSpPr>
        <p:spPr>
          <a:xfrm>
            <a:off x="1069560" y="887040"/>
            <a:ext cx="46450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5"/>
          <p:cNvSpPr/>
          <p:nvPr/>
        </p:nvSpPr>
        <p:spPr>
          <a:xfrm>
            <a:off x="3844800" y="9447120"/>
            <a:ext cx="294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4E99CF-4A0D-46EB-B619-A62C61E71884}" type="slidenum">
              <a:rPr b="0" i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2628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5554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3120" y="3801960"/>
            <a:ext cx="851688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400" y="98100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312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7400" y="3801960"/>
            <a:ext cx="415620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8276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62400" y="98100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312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8276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62400" y="3801960"/>
            <a:ext cx="2742120" cy="257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www.brockhaus-ag.d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7E8D-BF20-4A64-A266-CF19393CBE4F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D066-2C32-4747-8975-3E5E4A5F2756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DD08-D0C6-40D0-954F-C927135A1474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532D-7610-4382-A991-C23DC3F09DA2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8262-7106-41F8-9D33-685D41113952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6DF2-0908-4A82-BB9D-9A4CB3A25B5B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AB28-9FCE-4C51-9B32-2036AD4DB630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5EBD-643D-4382-844B-CE1992C4FA21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5227-9B9D-4918-8067-23C4315EBA0D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2425-C611-474A-B743-0C9F8654AC03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7" descr=""/>
          <p:cNvPicPr/>
          <p:nvPr/>
        </p:nvPicPr>
        <p:blipFill>
          <a:blip r:embed="rId2"/>
          <a:stretch/>
        </p:blipFill>
        <p:spPr>
          <a:xfrm>
            <a:off x="0" y="2001960"/>
            <a:ext cx="9144000" cy="24559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0"/>
          <p:cNvSpPr/>
          <p:nvPr/>
        </p:nvSpPr>
        <p:spPr>
          <a:xfrm>
            <a:off x="8019360" y="4508640"/>
            <a:ext cx="1089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2008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1"/>
          <p:cNvSpPr/>
          <p:nvPr/>
        </p:nvSpPr>
        <p:spPr>
          <a:xfrm flipV="1" rot="20292000">
            <a:off x="5889240" y="4484160"/>
            <a:ext cx="7272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2"/>
          <p:cNvSpPr/>
          <p:nvPr/>
        </p:nvSpPr>
        <p:spPr>
          <a:xfrm rot="20677200">
            <a:off x="5884560" y="4489200"/>
            <a:ext cx="73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13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381480" cy="714600"/>
          </a:xfrm>
          <a:prstGeom prst="rect">
            <a:avLst/>
          </a:prstGeom>
          <a:ln w="0">
            <a:noFill/>
          </a:ln>
        </p:spPr>
      </p:pic>
      <p:sp>
        <p:nvSpPr>
          <p:cNvPr id="646" name="Textfeld 8"/>
          <p:cNvSpPr/>
          <p:nvPr/>
        </p:nvSpPr>
        <p:spPr>
          <a:xfrm>
            <a:off x="7667640" y="4508640"/>
            <a:ext cx="144144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© Copyright 2013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dt" idx="3"/>
          </p:nvPr>
        </p:nvSpPr>
        <p:spPr>
          <a:xfrm>
            <a:off x="394920" y="5373720"/>
            <a:ext cx="360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ftr" idx="4"/>
          </p:nvPr>
        </p:nvSpPr>
        <p:spPr>
          <a:xfrm>
            <a:off x="2016000" y="6497280"/>
            <a:ext cx="511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0" y="2001960"/>
            <a:ext cx="9144000" cy="245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394920" y="5373720"/>
            <a:ext cx="3600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2016000" y="6497280"/>
            <a:ext cx="511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8019360" y="4508640"/>
            <a:ext cx="1089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2008 anderScor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 flipV="1" rot="20292000">
            <a:off x="5889240" y="4484160"/>
            <a:ext cx="72720" cy="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 rot="20677200">
            <a:off x="5884560" y="4489200"/>
            <a:ext cx="73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38148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F690-112F-4732-B099-022FBD1903AC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42E6-B124-4205-B241-055A1F498E0C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AB36-00A6-43C9-A4E6-81D3C6997748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EE7-5658-4202-B3E7-9102ACBFA0C9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Ralf Bommersb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4261320" y="6424560"/>
            <a:ext cx="172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Neue Features in JavaFX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BEFF-452F-494A-AC70-DB9F4986C136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945B-3C35-4030-A82F-8BFE9D8D7D8A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64F9-07E6-4B0E-A10F-90A67174B4D0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8F97-7A56-4C72-8444-A7715801C156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39E2-F466-4A59-BC92-D4FE40539EA7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E6F3-2B04-4EED-8A4A-E5388F52AE04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3A09-4EDA-4677-A586-265AC37D81BD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32CB-BD65-4B31-9FF9-8C9A0F474C7D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d4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7924680" y="457200"/>
            <a:ext cx="89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524480" y="661500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86DC-FC42-42D9-B502-3BEC43D68F56}" type="datetime">
              <a:rPr b="0" lang="de-DE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148960" y="6515280"/>
            <a:ext cx="75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9E56-1884-4FAB-B742-BDA01671B8F9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9">
            <a:hlinkClick r:id="rId2"/>
          </p:cNvPr>
          <p:cNvSpPr/>
          <p:nvPr/>
        </p:nvSpPr>
        <p:spPr>
          <a:xfrm>
            <a:off x="3914640" y="310500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40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41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2"/>
          <p:cNvSpPr/>
          <p:nvPr/>
        </p:nvSpPr>
        <p:spPr>
          <a:xfrm>
            <a:off x="1440" y="-36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713fdfc0-1a72-49da-bd13-b47278f75372" descr="EAF3711E-BEB0-47E0-BD76-8002A3B4EEFA@localdomain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3" descr="_anderScore-Logo_2773x575_new"/>
          <p:cNvPicPr/>
          <p:nvPr/>
        </p:nvPicPr>
        <p:blipFill>
          <a:blip r:embed="rId4"/>
          <a:stretch/>
        </p:blipFill>
        <p:spPr>
          <a:xfrm>
            <a:off x="6084720" y="231840"/>
            <a:ext cx="2754360" cy="5763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24"/>
          <p:cNvSpPr/>
          <p:nvPr/>
        </p:nvSpPr>
        <p:spPr>
          <a:xfrm>
            <a:off x="251640" y="6429240"/>
            <a:ext cx="3033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anderScore GmbH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Frankenwerft 35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50667 Köl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Auto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4261320" y="6424560"/>
            <a:ext cx="114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iname&gt;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f3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d4f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penjdk.java.net/projects/openjfx/" TargetMode="External"/><Relationship Id="rId2" Type="http://schemas.openxmlformats.org/officeDocument/2006/relationships/hyperlink" Target="https://wiki.openjdk.java.net/display/OpenJFX/Mai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fxclipse.bestsolution.at/install.html#all-in-on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2562120"/>
            <a:ext cx="49672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ue Features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JavaFX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68000" y="4462560"/>
            <a:ext cx="33829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.8.2014,  Ralf Bommer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C:\Users\rbommersbach\Desktop\froscon_logo.jpg"/>
          <p:cNvPicPr/>
          <p:nvPr/>
        </p:nvPicPr>
        <p:blipFill>
          <a:blip r:embed="rId1"/>
          <a:stretch/>
        </p:blipFill>
        <p:spPr>
          <a:xfrm>
            <a:off x="539640" y="333360"/>
            <a:ext cx="36673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Datepick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302760" y="1197000"/>
            <a:ext cx="383724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ich (!) ein Datepicker als GUI-Komponente ohne Einbindung externer Bibliotheken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CSS anpass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die neue Java SE 8 Date and Tim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Grafik 3" descr="datepicker.jpg"/>
          <p:cNvPicPr/>
          <p:nvPr/>
        </p:nvPicPr>
        <p:blipFill>
          <a:blip r:embed="rId1"/>
          <a:stretch/>
        </p:blipFill>
        <p:spPr>
          <a:xfrm>
            <a:off x="3875040" y="1197000"/>
            <a:ext cx="5018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Modena Theme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23640" y="1196640"/>
            <a:ext cx="34765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s Default Theme “Mode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Platform (keine nativen Themes in Version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 CSS Erstellung eigener Themes (z.B. AquaFX für Mac 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e wechs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4140360" y="4724280"/>
          <a:ext cx="4608360" cy="1584360"/>
        </p:xfrm>
        <a:graphic>
          <a:graphicData uri="http://schemas.openxmlformats.org/drawingml/2006/table">
            <a:tbl>
              <a:tblPr/>
              <a:tblGrid>
                <a:gridCol w="147600"/>
                <a:gridCol w="4460760"/>
              </a:tblGrid>
              <a:tr h="198036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class MyApplication extends Application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void start(Stage stage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setUserAgentStylesheet(STYLESHEET_CASPIAN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  <p:sp>
        <p:nvSpPr>
          <p:cNvPr id="738" name="Eingekerbter Pfeil nach rechts 6"/>
          <p:cNvSpPr/>
          <p:nvPr/>
        </p:nvSpPr>
        <p:spPr>
          <a:xfrm>
            <a:off x="2843280" y="5084640"/>
            <a:ext cx="979560" cy="486000"/>
          </a:xfrm>
          <a:custGeom>
            <a:avLst/>
            <a:gdLst>
              <a:gd name="textAreaLeft" fmla="*/ 121320 w 979560"/>
              <a:gd name="textAreaRight" fmla="*/ 858240 w 979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99b8a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Grafik 4" descr="modena_caspian_comparison.jpg"/>
          <p:cNvPicPr/>
          <p:nvPr/>
        </p:nvPicPr>
        <p:blipFill>
          <a:blip r:embed="rId1"/>
          <a:stretch/>
        </p:blipFill>
        <p:spPr>
          <a:xfrm>
            <a:off x="3672000" y="981000"/>
            <a:ext cx="547200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TreetableView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24000" y="1197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le Businessanwendungen in Swing benutzen diese Kompon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entsprechende Komponente in JavaF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Grafik 8" descr="single-selection-treetable.png"/>
          <p:cNvPicPr/>
          <p:nvPr/>
        </p:nvPicPr>
        <p:blipFill>
          <a:blip r:embed="rId1"/>
          <a:stretch/>
        </p:blipFill>
        <p:spPr>
          <a:xfrm>
            <a:off x="755640" y="2997360"/>
            <a:ext cx="7750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Print API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4" name="Inhaltsplatzhalter 2"/>
          <p:cNvSpPr/>
          <p:nvPr/>
        </p:nvSpPr>
        <p:spPr>
          <a:xfrm>
            <a:off x="303120" y="1125360"/>
            <a:ext cx="85168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leichbar mit der Print API in 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nt API Klasse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nter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WebView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ietet direkte Unterstützung des Print-API: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WebView.getEngine().print(PrinterJob j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c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0920" y="2924280"/>
          <a:ext cx="8569080" cy="3529080"/>
        </p:xfrm>
        <a:graphic>
          <a:graphicData uri="http://schemas.openxmlformats.org/drawingml/2006/table">
            <a:tbl>
              <a:tblPr/>
              <a:tblGrid>
                <a:gridCol w="339480"/>
                <a:gridCol w="8229600"/>
              </a:tblGrid>
              <a:tr h="356436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ublic void print(final Node node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rinter printer = Printer.getDefaultPrinter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ageLayout pageLayout = printer.createPageLayout(Paper.A4, PageOrientation.PORTRAIT, Printer.MarginType.DEFAULT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scaleX = pageLayout.getPrintableWidth() / node.getBoundsInParent().getWidth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double scaleY = pageLayout.getPrintableHeight() / node.getBoundsInParent().getHeight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node.getTransforms().add(new Scale(scaleX, scaleY)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rinterJob job = PrinterJob.createPrinterJob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f (job != null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oolean success = job.printPage(node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f (success)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job.endJob(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: Swing &amp; JavaFX finden zueinand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24000" y="1052640"/>
            <a:ext cx="851688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FXPanel (seit JavaFX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wing-Komponente um JavaFX Views in Swing zu integ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ingNode (seit JavaFX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Swing-Inhalte in eine JavaFX-Umgebung integ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vergessen(!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wing Event Dispatch Thread und JavaFX Applikation Thread synchronisie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187280" y="4508640"/>
          <a:ext cx="6624720" cy="1728720"/>
        </p:xfrm>
        <a:graphic>
          <a:graphicData uri="http://schemas.openxmlformats.org/drawingml/2006/table">
            <a:tbl>
              <a:tblPr/>
              <a:tblGrid>
                <a:gridCol w="212760"/>
                <a:gridCol w="6411960"/>
              </a:tblGrid>
              <a:tr h="172872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Label labelFX = new Label("JavaFX Label"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JButton buttonSwing = new JButton("Swing Button"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button.addActionListener(event -&gt; {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Platform.runLater(() -&gt; labelFX.setText("Swing aktualisiert JavaFX")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e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Weitere Features im Überblick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03120" y="981000"/>
            <a:ext cx="85168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n u.a. auch mit WebSockets, Web Workers, besserer HTML5/JS Unterstützung sowie Drucken von HTML-S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vas AP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ichne direkt auf einer einzelnen graphischen Node in der Sz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ouc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erend auf den Möglichkeiten der entspr. Plat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-DPI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B. für Retina Disp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-accelerated graphics pipe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Hilfe der Graphics Rendering Pipeline P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 media eng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möglicht Playback von (Web) Multimedia Inhalten (basierend auf dem GStreamer multimedia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Fazit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410920" y="2637000"/>
            <a:ext cx="446436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a42"/>
                </a:solidFill>
                <a:latin typeface="Arial"/>
              </a:rPr>
              <a:t>We </a:t>
            </a:r>
            <a:r>
              <a:rPr b="1" lang="de-DE" sz="4000" spc="-1" strike="noStrike">
                <a:solidFill>
                  <a:srgbClr val="c00000"/>
                </a:solidFill>
                <a:latin typeface="Arial"/>
              </a:rPr>
              <a:t>&lt;3</a:t>
            </a:r>
            <a:r>
              <a:rPr b="1" lang="de-DE" sz="4000" spc="-1" strike="noStrike">
                <a:solidFill>
                  <a:srgbClr val="006a42"/>
                </a:solidFill>
                <a:latin typeface="Arial"/>
              </a:rPr>
              <a:t> JavaF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64300"/>
                </a:solidFill>
                <a:latin typeface="Arial"/>
              </a:rPr>
              <a:t>(Noch Fragen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Links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03120" y="1197000"/>
            <a:ext cx="85168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Samples und Slides dieser Prä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github.com/mjohenneken/anderscore-FrOSCon-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enebuilder 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www.oracle.com/technetwork/java/javase/downloads/javafxscenebuilder-info-215768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tting started with JavaFX and Overview of Key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et-started-tutorial/javafx_get_started.htm#JFXST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Getting Started with JavaFX 3D Grap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raphics-tutorial/javafx-3d-graphic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How do I run a sample Application (including 3DViewer.j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docs.oracle.com/javase/8/javafx/get-started-tutorial/jfx-overview.htm#BABHGF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acle Java Document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h Text API 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ikis.oracle.com/display/OpenJDK/Rich+Text+API+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Grafik 19" descr="micha_schiffe_.jpeg"/>
          <p:cNvPicPr/>
          <p:nvPr/>
        </p:nvPicPr>
        <p:blipFill>
          <a:blip r:embed="rId1"/>
          <a:stretch/>
        </p:blipFill>
        <p:spPr>
          <a:xfrm>
            <a:off x="250920" y="1125360"/>
            <a:ext cx="8626320" cy="496764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34099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Inhalt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39528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395280" y="184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JavaFX goes Open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395280" y="249156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Tools: Scenbuilder 2.0, e(fx)clip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395280" y="393300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JavaFX goes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hteck 14"/>
          <p:cNvSpPr/>
          <p:nvPr/>
        </p:nvSpPr>
        <p:spPr>
          <a:xfrm>
            <a:off x="246240" y="3703680"/>
            <a:ext cx="8786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hteck 16"/>
          <p:cNvSpPr/>
          <p:nvPr/>
        </p:nvSpPr>
        <p:spPr>
          <a:xfrm>
            <a:off x="0" y="1557360"/>
            <a:ext cx="8893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hteck 17"/>
          <p:cNvSpPr/>
          <p:nvPr/>
        </p:nvSpPr>
        <p:spPr>
          <a:xfrm>
            <a:off x="257040" y="4467240"/>
            <a:ext cx="8786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hteck 16"/>
          <p:cNvSpPr/>
          <p:nvPr/>
        </p:nvSpPr>
        <p:spPr>
          <a:xfrm>
            <a:off x="388800" y="2936880"/>
            <a:ext cx="85694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395280" y="31424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Richtext Support in JavaFX 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hteck 17"/>
          <p:cNvSpPr/>
          <p:nvPr/>
        </p:nvSpPr>
        <p:spPr>
          <a:xfrm>
            <a:off x="138240" y="5300640"/>
            <a:ext cx="87865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hteck 13"/>
          <p:cNvSpPr/>
          <p:nvPr/>
        </p:nvSpPr>
        <p:spPr>
          <a:xfrm>
            <a:off x="395280" y="47242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Weiter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hteck 16"/>
          <p:cNvSpPr/>
          <p:nvPr/>
        </p:nvSpPr>
        <p:spPr>
          <a:xfrm>
            <a:off x="260280" y="2357280"/>
            <a:ext cx="87868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hteck 15"/>
          <p:cNvSpPr/>
          <p:nvPr/>
        </p:nvSpPr>
        <p:spPr>
          <a:xfrm>
            <a:off x="395280" y="5516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Fazit,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Einführung: Über mich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908000" y="981000"/>
            <a:ext cx="69120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ftware Engineer (Dipl.-Inf.) bei der anderScore GmbH in Köl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hrjährige Erfahrung 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jektorientierter Software-Entwicklung, vornehmlich in Java SE/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, Analyse und Entwurf von Geschäftsprozessen und Anwendungslog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rchitektur mehrschichtiger (verteilter)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ign und Implementierung von Web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gration von Altsyste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gilen Entwicklungs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C:\Users\rbommersbach\Desktop\User-rbommersbach.jpg"/>
          <p:cNvPicPr/>
          <p:nvPr/>
        </p:nvPicPr>
        <p:blipFill>
          <a:blip r:embed="rId1"/>
          <a:stretch/>
        </p:blipFill>
        <p:spPr>
          <a:xfrm>
            <a:off x="395280" y="1052640"/>
            <a:ext cx="1374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Open Source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250920" y="1196640"/>
            <a:ext cx="8516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FX 8 fully open sou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URL: </a:t>
            </a:r>
            <a:br>
              <a:rPr sz="2000"/>
            </a:b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openjdk.java.net/projects/openjf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 (Build Instructions, etc.):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https://wiki.openjdk.java.net/display/OpenJFX/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aches Einbetten aller Sourcen in eine IDE (z.B. Eclipse) dur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fx-src.z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m JDK 8 root folder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FX nun auf dem Standard Klassenpf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FX liegt nun endlich auf dem default runtime classpath einer Oracle Java implement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re/lib/ext/jfxrt.j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und ist damit ein vollständig integrierter Teil des Java JDK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fik 3" descr="openjdk.jpg"/>
          <p:cNvPicPr/>
          <p:nvPr/>
        </p:nvPicPr>
        <p:blipFill>
          <a:blip r:embed="rId3"/>
          <a:stretch/>
        </p:blipFill>
        <p:spPr>
          <a:xfrm>
            <a:off x="6012000" y="981000"/>
            <a:ext cx="29336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Tools: Scenebuilder 2.0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3120" y="1196640"/>
            <a:ext cx="4340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ktives Design der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ert FXM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2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JavaFX 8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t selbsterstellte 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stützt JavaFX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sere IDE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414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Tools: e(fx) Eclipse Addon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03120" y="1196640"/>
            <a:ext cx="4340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fohlenes Eclipse-Plugin für JavaFX 8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es eclip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DK 8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(all-in-one bund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efxclipse.bestsolution.at/install.html#all-in-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421164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Richtext Support in JavaFX 8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03120" y="1125000"/>
            <a:ext cx="8516880" cy="22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 Klasse Text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fluss mit versch. Fonts, Styles, Grafiken, Node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c5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s Wrapping des Textes bei Window resize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5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496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3D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Shape3D und Konsorten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23640" y="1125000"/>
            <a:ext cx="511164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Shape3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lass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avafx.scene.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Shape3D (abstr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Mesh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Cy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vafx.scene.shape.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s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lass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vafx.scene.shape.Mesh (abstr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vafx.scene.shape.Triangle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Inhaltsplatzhalter 2"/>
          <p:cNvSpPr/>
          <p:nvPr/>
        </p:nvSpPr>
        <p:spPr>
          <a:xfrm>
            <a:off x="5091120" y="3860640"/>
            <a:ext cx="4052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Grafik 10" descr="Shapes.gif"/>
          <p:cNvPicPr/>
          <p:nvPr/>
        </p:nvPicPr>
        <p:blipFill>
          <a:blip r:embed="rId1"/>
          <a:stretch/>
        </p:blipFill>
        <p:spPr>
          <a:xfrm>
            <a:off x="5580000" y="1197000"/>
            <a:ext cx="3273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55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JavaFX goes 3D: </a:t>
            </a:r>
            <a:br>
              <a:rPr sz="2800"/>
            </a:br>
            <a:r>
              <a:rPr b="0" lang="de-DE" sz="2800" spc="-1" strike="noStrike">
                <a:solidFill>
                  <a:srgbClr val="0d4f3c"/>
                </a:solidFill>
                <a:latin typeface="Arial"/>
              </a:rPr>
              <a:t>3DViewer</a:t>
            </a:r>
            <a:endParaRPr b="0" lang="en-US" sz="2800" spc="-1" strike="noStrike">
              <a:solidFill>
                <a:srgbClr val="0d4f3c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3120" y="1196640"/>
            <a:ext cx="40528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Import gänger 3D-Formate (z.B. OBJ and M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tützt Export als Java oder FXML 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c5a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uell noch sehr früher, experimenteller Entwicklungs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{ DEM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7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572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1T16:33:14Z</dcterms:created>
  <dc:creator>R.Vicups, S.Ohm</dc:creator>
  <dc:description/>
  <dc:language>en-US</dc:language>
  <cp:lastModifiedBy>rbommersbach</cp:lastModifiedBy>
  <cp:lastPrinted>1996-08-01T16:36:58Z</cp:lastPrinted>
  <dcterms:modified xsi:type="dcterms:W3CDTF">2014-08-22T14:52:48Z</dcterms:modified>
  <cp:revision>439</cp:revision>
  <dc:subject/>
  <dc:title>Standard-power-point-Vorlage</dc:title>
</cp:coreProperties>
</file>