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8656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7860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5"/>
          </p:nvPr>
        </p:nvSpPr>
        <p:spPr>
          <a:xfrm>
            <a:off x="3844440" y="936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ftr" idx="6"/>
          </p:nvPr>
        </p:nvSpPr>
        <p:spPr>
          <a:xfrm>
            <a:off x="-360" y="944712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sldNum" idx="7"/>
          </p:nvPr>
        </p:nvSpPr>
        <p:spPr>
          <a:xfrm>
            <a:off x="3844440" y="944712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BF59E7-45CF-4BA1-BDF8-40847CC3ED76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body"/>
          </p:nvPr>
        </p:nvSpPr>
        <p:spPr>
          <a:xfrm>
            <a:off x="906120" y="4738680"/>
            <a:ext cx="4971960" cy="44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Img"/>
          </p:nvPr>
        </p:nvSpPr>
        <p:spPr>
          <a:xfrm>
            <a:off x="1069560" y="887040"/>
            <a:ext cx="464508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5"/>
          <p:cNvSpPr/>
          <p:nvPr/>
        </p:nvSpPr>
        <p:spPr>
          <a:xfrm>
            <a:off x="3844800" y="9447120"/>
            <a:ext cx="294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6ABBDC-CA32-484F-A23C-DE0C9F240663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2628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1178-BEA1-4648-803A-C45809B524D5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4758-21EE-49D4-B3A3-D043BBB230C0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89AE-2622-437B-BB3B-080428433608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470B-ECA4-41DA-A03E-A3248426B76D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1A9E-A600-4D64-8101-14053D2FDF37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6252-B835-43A5-ADFE-EA8944CDCE22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AF09-AE18-4F64-9EC8-3A432AAD0019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8914-83DA-4598-89DB-78B2C7A7655B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218E-1D18-4417-8515-386D3E587D77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BF11-4A36-4BF7-B03D-475128125CE0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7" descr=""/>
          <p:cNvPicPr/>
          <p:nvPr/>
        </p:nvPicPr>
        <p:blipFill>
          <a:blip r:embed="rId2"/>
          <a:stretch/>
        </p:blipFill>
        <p:spPr>
          <a:xfrm>
            <a:off x="0" y="2001960"/>
            <a:ext cx="9144000" cy="24559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0"/>
          <p:cNvSpPr/>
          <p:nvPr/>
        </p:nvSpPr>
        <p:spPr>
          <a:xfrm>
            <a:off x="8019360" y="4508640"/>
            <a:ext cx="1089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2008 anderScor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1"/>
          <p:cNvSpPr/>
          <p:nvPr/>
        </p:nvSpPr>
        <p:spPr>
          <a:xfrm flipV="1" rot="20292000">
            <a:off x="5889240" y="4484160"/>
            <a:ext cx="7272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2"/>
          <p:cNvSpPr/>
          <p:nvPr/>
        </p:nvSpPr>
        <p:spPr>
          <a:xfrm rot="20677200">
            <a:off x="5884560" y="4489200"/>
            <a:ext cx="73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13" descr=""/>
          <p:cNvPicPr/>
          <p:nvPr/>
        </p:nvPicPr>
        <p:blipFill>
          <a:blip r:embed="rId3"/>
          <a:stretch/>
        </p:blipFill>
        <p:spPr>
          <a:xfrm>
            <a:off x="5364000" y="620640"/>
            <a:ext cx="3381480" cy="714600"/>
          </a:xfrm>
          <a:prstGeom prst="rect">
            <a:avLst/>
          </a:prstGeom>
          <a:ln w="0">
            <a:noFill/>
          </a:ln>
        </p:spPr>
      </p:pic>
      <p:sp>
        <p:nvSpPr>
          <p:cNvPr id="646" name="Textfeld 8"/>
          <p:cNvSpPr/>
          <p:nvPr/>
        </p:nvSpPr>
        <p:spPr>
          <a:xfrm>
            <a:off x="7667640" y="4508640"/>
            <a:ext cx="144144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© Copyright 2013 anderScor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dt" idx="3"/>
          </p:nvPr>
        </p:nvSpPr>
        <p:spPr>
          <a:xfrm>
            <a:off x="394920" y="5373720"/>
            <a:ext cx="3600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ftr" idx="4"/>
          </p:nvPr>
        </p:nvSpPr>
        <p:spPr>
          <a:xfrm>
            <a:off x="2016000" y="6497280"/>
            <a:ext cx="511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0" y="2001960"/>
            <a:ext cx="9144000" cy="245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394920" y="5373720"/>
            <a:ext cx="3600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2"/>
          </p:nvPr>
        </p:nvSpPr>
        <p:spPr>
          <a:xfrm>
            <a:off x="2016000" y="6497280"/>
            <a:ext cx="511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8019360" y="4508640"/>
            <a:ext cx="1089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2008 anderScor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 flipV="1" rot="20292000">
            <a:off x="5889240" y="4484160"/>
            <a:ext cx="7272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 rot="20677200">
            <a:off x="5884560" y="4489200"/>
            <a:ext cx="73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3"/>
          <a:stretch/>
        </p:blipFill>
        <p:spPr>
          <a:xfrm>
            <a:off x="5364000" y="620640"/>
            <a:ext cx="338148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E557-2B87-4E7E-888B-E502A253F8BB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0EEE-E604-4519-B2C6-C41F3DC9DF33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61E0-B298-4481-9D49-AA73FDA34681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2730-3D75-4EB7-BB99-FC5FCE1862EB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Ralf Bommersb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4261320" y="6424560"/>
            <a:ext cx="172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Neue Features in JavaFX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4256-2771-43FE-A975-78D339FEC160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0D4E-AEFC-4C00-A3E4-C5A4CC7FF419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7429-4929-4851-9E1F-B62E924FFB3B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AC77-3030-4A76-A409-E78F76AB1E7E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7C88-9C06-4BF4-94EB-9BF86D87AB3B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A662-5B80-4D91-A11D-150FCE8B8D34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3E0A-65F8-473F-AB60-EE094062FDA6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4DD9-7A2E-4FE3-81FF-51ED5368BE1E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027A-7CEE-46B1-A750-97DD85BC143B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1603-E990-4255-909C-4C792B3242D2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penjdk.java.net/projects/openjfx/" TargetMode="External"/><Relationship Id="rId2" Type="http://schemas.openxmlformats.org/officeDocument/2006/relationships/hyperlink" Target="https://wiki.openjdk.java.net/display/OpenJFX/Mai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fxclipse.bestsolution.at/install.html#all-in-one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2562120"/>
            <a:ext cx="496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eue Features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JavaFX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68000" y="4462560"/>
            <a:ext cx="33829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.8.2014,  Ralf Bommer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5" descr="C:\Users\rbommersbach\Desktop\froscon_logo.jpg"/>
          <p:cNvPicPr/>
          <p:nvPr/>
        </p:nvPicPr>
        <p:blipFill>
          <a:blip r:embed="rId1"/>
          <a:stretch/>
        </p:blipFill>
        <p:spPr>
          <a:xfrm>
            <a:off x="539640" y="333360"/>
            <a:ext cx="36673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Datepicker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02760" y="1197000"/>
            <a:ext cx="383724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ich (!) ein Datepicker als GUI-Komponente ohne Einbindung externer Bibliotheken verfü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CSS anpass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t die neue Java SE 8 Date and Tim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Grafik 3" descr="datepicker.jpg"/>
          <p:cNvPicPr/>
          <p:nvPr/>
        </p:nvPicPr>
        <p:blipFill>
          <a:blip r:embed="rId1"/>
          <a:stretch/>
        </p:blipFill>
        <p:spPr>
          <a:xfrm>
            <a:off x="3875040" y="1197000"/>
            <a:ext cx="5018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</a:t>
            </a:r>
            <a:br>
              <a:rPr sz="2800"/>
            </a:b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Modena Theme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23640" y="1196640"/>
            <a:ext cx="34765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es Default Theme “Mode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Platform (keine nativen Themes in Version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 CSS Erstellung eigener Themes (z.B. AquaFX für Mac 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e wechs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4140360" y="4724280"/>
          <a:ext cx="4608360" cy="1584360"/>
        </p:xfrm>
        <a:graphic>
          <a:graphicData uri="http://schemas.openxmlformats.org/drawingml/2006/table">
            <a:tbl>
              <a:tblPr/>
              <a:tblGrid>
                <a:gridCol w="147600"/>
                <a:gridCol w="4460760"/>
              </a:tblGrid>
              <a:tr h="198036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ublic class MyApplication extends Application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ublic void start(Stage stage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setUserAgentStylesheet(STYLESHEET_CASPIAN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</a:tr>
            </a:tbl>
          </a:graphicData>
        </a:graphic>
      </p:graphicFrame>
      <p:sp>
        <p:nvSpPr>
          <p:cNvPr id="738" name="Eingekerbter Pfeil nach rechts 6"/>
          <p:cNvSpPr/>
          <p:nvPr/>
        </p:nvSpPr>
        <p:spPr>
          <a:xfrm>
            <a:off x="2843280" y="5084640"/>
            <a:ext cx="979560" cy="486000"/>
          </a:xfrm>
          <a:custGeom>
            <a:avLst/>
            <a:gdLst>
              <a:gd name="textAreaLeft" fmla="*/ 121320 w 979560"/>
              <a:gd name="textAreaRight" fmla="*/ 858240 w 979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0" y="5400"/>
                </a:lnTo>
                <a:lnTo>
                  <a:pt x="16250" y="0"/>
                </a:lnTo>
                <a:lnTo>
                  <a:pt x="21600" y="10800"/>
                </a:lnTo>
                <a:lnTo>
                  <a:pt x="16250" y="21600"/>
                </a:lnTo>
                <a:lnTo>
                  <a:pt x="16250" y="16200"/>
                </a:lnTo>
                <a:lnTo>
                  <a:pt x="0" y="16200"/>
                </a:lnTo>
                <a:lnTo>
                  <a:pt x="2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99b8a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Grafik 4" descr="modena_caspian_comparison.jpg"/>
          <p:cNvPicPr/>
          <p:nvPr/>
        </p:nvPicPr>
        <p:blipFill>
          <a:blip r:embed="rId1"/>
          <a:stretch/>
        </p:blipFill>
        <p:spPr>
          <a:xfrm>
            <a:off x="3672000" y="981000"/>
            <a:ext cx="547200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TreetableView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24000" y="1197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le Businessanwendungen in Swing benutzen diese Kompon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ne entsprechende Komponente in JavaF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Grafik 8" descr="single-selection-treetable.png"/>
          <p:cNvPicPr/>
          <p:nvPr/>
        </p:nvPicPr>
        <p:blipFill>
          <a:blip r:embed="rId1"/>
          <a:stretch/>
        </p:blipFill>
        <p:spPr>
          <a:xfrm>
            <a:off x="755640" y="2997360"/>
            <a:ext cx="7750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Print API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44" name="Inhaltsplatzhalter 2"/>
          <p:cNvSpPr/>
          <p:nvPr/>
        </p:nvSpPr>
        <p:spPr>
          <a:xfrm>
            <a:off x="303120" y="1125360"/>
            <a:ext cx="85168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leichbar mit der Print API in S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nt API Klasse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nter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WebView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bietet direkte Unterstützung des Print-API: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WebView.getEngine().print(PrinterJob j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c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0920" y="2924280"/>
          <a:ext cx="8569080" cy="3529080"/>
        </p:xfrm>
        <a:graphic>
          <a:graphicData uri="http://schemas.openxmlformats.org/drawingml/2006/table">
            <a:tbl>
              <a:tblPr/>
              <a:tblGrid>
                <a:gridCol w="339480"/>
                <a:gridCol w="8229600"/>
              </a:tblGrid>
              <a:tr h="356436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ublic void print(final Node node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rinter printer = Printer.getDefaultPrinter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ageLayout pageLayout = printer.createPageLayout(Paper.A4, PageOrientation.PORTRAIT, Printer.MarginType.DEFAULT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scaleX = pageLayout.getPrintableWidth() / node.getBoundsInParent().getWidth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scaleY = pageLayout.getPrintableHeight() / node.getBoundsInParent().getHeight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node.getTransforms().add(new Scale(scaleX, scaleY)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rinterJob job = PrinterJob.createPrinterJob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f (job != null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boolean success = job.printPage(node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f (success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job.endJob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Swing &amp; JavaFX finden zueinander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24000" y="1052640"/>
            <a:ext cx="851688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FXPanel (seit JavaF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wing-Komponente um JavaFX Views in Swing zu integ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wingNode (seit JavaFX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Swing-Inhalte in eine JavaFX-Umgebung integ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vergessen(!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wing Event Dispatch Thread und JavaFX Applikation Thread synchronisie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187280" y="4508640"/>
          <a:ext cx="6624720" cy="1728720"/>
        </p:xfrm>
        <a:graphic>
          <a:graphicData uri="http://schemas.openxmlformats.org/drawingml/2006/table">
            <a:tbl>
              <a:tblPr/>
              <a:tblGrid>
                <a:gridCol w="212760"/>
                <a:gridCol w="6411960"/>
              </a:tblGrid>
              <a:tr h="172872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Label labelFX = new Label("JavaFX Label"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JButton buttonSwing = new JButton("Swing Button"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button.addActionListener(event -&gt;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latform.runLater(() -&gt; labelFX.setText("Swing aktualisiert JavaFX")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 im Überblick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n u.a. auch mit WebSockets, Web Workers, besserer HTML5/JS Unterstützung sowie Drucken von HTML-S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vas AP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ichne direkt auf einer einzelnen graphischen Node in der Sz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ouc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erend auf den Möglichkeiten der entspr. Plat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-DPI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B. für Retina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-accelerated graphics pipe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Hilfe der Graphics Rendering Pipeline P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 media eng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möglicht Playback von (Web) Multimedia Inhalten (basierend auf dem GStreamer multimedia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Fazit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410920" y="2637000"/>
            <a:ext cx="446436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a42"/>
                </a:solidFill>
                <a:latin typeface="Arial"/>
              </a:rPr>
              <a:t>We </a:t>
            </a:r>
            <a:r>
              <a:rPr b="1" lang="de-DE" sz="4000" spc="-1" strike="noStrike">
                <a:solidFill>
                  <a:srgbClr val="c00000"/>
                </a:solidFill>
                <a:latin typeface="Arial"/>
              </a:rPr>
              <a:t>&lt;3</a:t>
            </a:r>
            <a:r>
              <a:rPr b="1" lang="de-DE" sz="4000" spc="-1" strike="noStrike">
                <a:solidFill>
                  <a:srgbClr val="006a42"/>
                </a:solidFill>
                <a:latin typeface="Arial"/>
              </a:rPr>
              <a:t> JavaFX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864300"/>
                </a:solidFill>
                <a:latin typeface="Arial"/>
              </a:rPr>
              <a:t>(Noch Fragen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Links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03120" y="1197000"/>
            <a:ext cx="85168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Samples und Slides dieser Prä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github.com/mjohenneken/anderscore-FrOSCon-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enebuilder 2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www.oracle.com/technetwork/java/javase/downloads/javafxscenebuilder-info-215768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etting started with JavaFX and Overview of Key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docs.oracle.com/javase/8/javafx/get-started-tutorial/javafx_get_started.htm#JFXST7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acle Java Documentation: Getting Started with JavaFX 3D Graph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docs.oracle.com/javase/8/javafx/graphics-tutorial/javafx-3d-graphic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acle Java Documentation: How do I run a sample Application (including 3DViewer.j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docs.oracle.com/javase/8/javafx/get-started-tutorial/jfx-overview.htm#BABHGF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acle Java Documenta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ch Text API 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wikis.oracle.com/display/OpenJDK/Rich+Text+API+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Grafik 19" descr="micha_schiffe_.jpeg"/>
          <p:cNvPicPr/>
          <p:nvPr/>
        </p:nvPicPr>
        <p:blipFill>
          <a:blip r:embed="rId1"/>
          <a:stretch/>
        </p:blipFill>
        <p:spPr>
          <a:xfrm>
            <a:off x="250920" y="1125360"/>
            <a:ext cx="8626320" cy="496764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34099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Inhalt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39528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Ein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395280" y="184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JavaFX goes Ope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395280" y="249156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Tools: Scenbuilder 2.0, e(fx)clip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395280" y="393300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JavaFX goes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hteck 14"/>
          <p:cNvSpPr/>
          <p:nvPr/>
        </p:nvSpPr>
        <p:spPr>
          <a:xfrm>
            <a:off x="246240" y="3703680"/>
            <a:ext cx="87865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hteck 16"/>
          <p:cNvSpPr/>
          <p:nvPr/>
        </p:nvSpPr>
        <p:spPr>
          <a:xfrm>
            <a:off x="0" y="1557360"/>
            <a:ext cx="8893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hteck 17"/>
          <p:cNvSpPr/>
          <p:nvPr/>
        </p:nvSpPr>
        <p:spPr>
          <a:xfrm>
            <a:off x="257040" y="4467240"/>
            <a:ext cx="8786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hteck 16"/>
          <p:cNvSpPr/>
          <p:nvPr/>
        </p:nvSpPr>
        <p:spPr>
          <a:xfrm>
            <a:off x="388800" y="2936880"/>
            <a:ext cx="85694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395280" y="31424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Richtext Support in JavaFX 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hteck 17"/>
          <p:cNvSpPr/>
          <p:nvPr/>
        </p:nvSpPr>
        <p:spPr>
          <a:xfrm>
            <a:off x="138240" y="5300640"/>
            <a:ext cx="87865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hteck 13"/>
          <p:cNvSpPr/>
          <p:nvPr/>
        </p:nvSpPr>
        <p:spPr>
          <a:xfrm>
            <a:off x="395280" y="472428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Weitere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hteck 16"/>
          <p:cNvSpPr/>
          <p:nvPr/>
        </p:nvSpPr>
        <p:spPr>
          <a:xfrm>
            <a:off x="260280" y="2357280"/>
            <a:ext cx="8786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hteck 15"/>
          <p:cNvSpPr/>
          <p:nvPr/>
        </p:nvSpPr>
        <p:spPr>
          <a:xfrm>
            <a:off x="395280" y="5516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Fazit,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Einführung: Über mich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908000" y="981000"/>
            <a:ext cx="69120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ftware Engineer (Dipl.-Inf.) bei der anderScore GmbH in Köl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jährige Erfahrung m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jektorientierter Software-Entwicklung, vornehmlich in Java SE/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ierung, Analyse und Entwurf von Geschäftsprozessen und Anwendungslog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architektur mehrschichtiger (verteilter)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ign und Implementierung von Web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gration von Altsyste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gilen Entwicklungs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4" descr="C:\Users\rbommersbach\Desktop\User-rbommersbach.jpg"/>
          <p:cNvPicPr/>
          <p:nvPr/>
        </p:nvPicPr>
        <p:blipFill>
          <a:blip r:embed="rId1"/>
          <a:stretch/>
        </p:blipFill>
        <p:spPr>
          <a:xfrm>
            <a:off x="395280" y="1052640"/>
            <a:ext cx="13748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JavaFX goes Open Source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250920" y="1196640"/>
            <a:ext cx="85168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FX 8 fully open sour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URL: </a:t>
            </a:r>
            <a:br>
              <a:rPr sz="2000"/>
            </a:b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openjdk.java.net/projects/openjf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 (Build Instructions, etc.):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https://wiki.openjdk.java.net/display/OpenJFX/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aches Einbetten aller Sourcen in eine IDE (z.B. Eclipse) dur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fx-src.z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m JDK 8 root folder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FX nun auf dem Standard Klassenpf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FX liegt nun endlich auf dem default runtime classpath einer Oracle Java implement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re/lib/ext/jfxrt.j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und ist damit ein vollständig integrierter Teil des Java JDK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fik 3" descr="openjdk.jpg"/>
          <p:cNvPicPr/>
          <p:nvPr/>
        </p:nvPicPr>
        <p:blipFill>
          <a:blip r:embed="rId3"/>
          <a:stretch/>
        </p:blipFill>
        <p:spPr>
          <a:xfrm>
            <a:off x="6012000" y="981000"/>
            <a:ext cx="29336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Tools: Scenebuilder 2.0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3120" y="1196640"/>
            <a:ext cx="43401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ktives Design der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ert FXM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2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JavaFX 8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stützt selbsterstellte Kompon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stützt JavaFX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sere IDE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414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Tools: e(fx) Eclipse Addon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03120" y="1196640"/>
            <a:ext cx="43401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fohlenes Eclipse-Plugin für JavaFX 8 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ches eclip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DK 8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(all-in-one bundl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efxclipse.bestsolution.at/install.html#all-in-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421164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Richtext Support in JavaFX 8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03120" y="1125000"/>
            <a:ext cx="8516880" cy="22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e Klasse Text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fluss mit versch. Fonts, Styles, Grafiken, Nod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sches Wrapping des Textes bei Window resize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5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496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JavaFX goes 3D: </a:t>
            </a:r>
            <a:br>
              <a:rPr sz="2800"/>
            </a:b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Shape3D und Konsorten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23640" y="1125000"/>
            <a:ext cx="511164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Shape3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lass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javafx.scene.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Shape3D (abstr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Mesh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Cyl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s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lass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vafx.scene.shape.Mesh (abstr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fx.scene.shape.Triangle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Inhaltsplatzhalter 2"/>
          <p:cNvSpPr/>
          <p:nvPr/>
        </p:nvSpPr>
        <p:spPr>
          <a:xfrm>
            <a:off x="5091120" y="3860640"/>
            <a:ext cx="40528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Grafik 10" descr="Shapes.gif"/>
          <p:cNvPicPr/>
          <p:nvPr/>
        </p:nvPicPr>
        <p:blipFill>
          <a:blip r:embed="rId1"/>
          <a:stretch/>
        </p:blipFill>
        <p:spPr>
          <a:xfrm>
            <a:off x="5580000" y="1197000"/>
            <a:ext cx="3273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JavaFX goes 3D: </a:t>
            </a:r>
            <a:br>
              <a:rPr sz="2800"/>
            </a:b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3DViewer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03120" y="1196640"/>
            <a:ext cx="40528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t Import gänger 3D-Formate (z.B. OBJ and Ma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t Export als Java oder FXML 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uell noch sehr früher, experimenteller Entwicklungs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7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572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01T16:33:14Z</dcterms:created>
  <dc:creator>R.Vicups, S.Ohm</dc:creator>
  <dc:description/>
  <dc:language>en-US</dc:language>
  <cp:lastModifiedBy>rbommersbach</cp:lastModifiedBy>
  <cp:lastPrinted>1996-08-01T16:36:58Z</cp:lastPrinted>
  <dcterms:modified xsi:type="dcterms:W3CDTF">2014-08-22T14:52:48Z</dcterms:modified>
  <cp:revision>439</cp:revision>
  <dc:subject/>
  <dc:title>Standard-power-point-Vorlage</dc:title>
</cp:coreProperties>
</file>